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3EE1-6543-4496-A003-9F94FE22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6CC-5196-4633-A878-C2330D70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FC0-C778-4F1B-9F8C-B5604655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9362-B0D8-488C-B303-072E177D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C2F1-9223-428A-8257-98FDF4FB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A7B6-872E-44A7-AB09-51A0887B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6491-5F9D-4FD8-B543-8786A8C0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2FB2-9698-4E25-8CAE-2A16761A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C4BF-CA01-4A6F-B045-0E4C2FF1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71EA-53CB-49E1-A9CD-78FFD422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E304-DD0D-411F-B1B0-3D822FF8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0C88-E87B-4756-AEC8-D7F560A5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6DAC-69D5-4B49-916A-415A1F57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79D4-9C7B-4A4B-B2FC-C580DC4D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A0CE-06DC-4043-9A2B-6E997C44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F30B-97AC-4150-9815-0504702A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9601-66C4-4A83-A813-18235651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FFF3-9138-4B9C-9499-B8B753F9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A17-5548-4946-B31C-7C63A64A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02A0-6326-4EDF-84BF-DA17DE6C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20C7-8963-4C04-9283-6C742676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EC1C-FCFC-4E8F-983E-D09B57E4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166-5B91-4508-8675-C531601B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75C-ADB7-477C-A48C-B2CFBE5B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3BD2-C11F-450A-A8C9-E0C9C68708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B50C-ADC5-4515-84E0-59689D221D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90720" y="214200"/>
            <a:ext cx="81532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e4a8"/>
                </a:solidFill>
                <a:latin typeface="Tahoma"/>
              </a:rPr>
              <a:t>Me llamo __________       Clase 802</a:t>
            </a:r>
            <a:br>
              <a:rPr sz="3600"/>
            </a:br>
            <a:r>
              <a:rPr b="0" lang="en-US" sz="3600" spc="-1" strike="noStrike">
                <a:solidFill>
                  <a:srgbClr val="00e4a8"/>
                </a:solidFill>
                <a:latin typeface="Tahoma"/>
              </a:rPr>
              <a:t>La fecha es el 26 de mayo del 201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28600" y="1600200"/>
            <a:ext cx="89154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</a:rPr>
              <a:t>Propósito # 84 :</a:t>
            </a:r>
            <a:r>
              <a:rPr b="0" lang="es-ES_tradnl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¿Conoces un país extranjer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7030a0"/>
                </a:solidFill>
                <a:latin typeface="Tahoma"/>
                <a:ea typeface="Tahoma"/>
              </a:rPr>
              <a:t>l.o: to learn the differnce between SABER &amp; CONOC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Actividad Inicial:</a:t>
            </a:r>
            <a:r>
              <a:rPr b="0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In the following sentences, write the correct form of SER or EST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Yo _______ un alumno en TR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Tú _______ en la clase de españo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Ella ______ inteligente y se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Nosotros _________ atlét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¿Ustedes __________ bi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What is do SER &amp; ESTAR mea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What is the differ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14200"/>
            <a:ext cx="815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Saber y Conocer en el present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ling what and whom you know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erbs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AB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CONOC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oth me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 kno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both have an irregular YO form in the present te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2"/>
          <p:cNvSpPr/>
          <p:nvPr/>
        </p:nvSpPr>
        <p:spPr>
          <a:xfrm>
            <a:off x="2514600" y="2438280"/>
            <a:ext cx="855720" cy="854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333399"/>
                </a:solidFill>
                <a:latin typeface="Tahoma"/>
              </a:rPr>
              <a:t>Saber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onju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90920" y="2514600"/>
            <a:ext cx="152388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é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ab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ab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705720" y="2573280"/>
            <a:ext cx="2438280" cy="14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abemo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abe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28600" y="5002200"/>
            <a:ext cx="3695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er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rregular in i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9"/>
          <p:cNvSpPr/>
          <p:nvPr/>
        </p:nvSpPr>
        <p:spPr>
          <a:xfrm flipV="1">
            <a:off x="2057400" y="3260880"/>
            <a:ext cx="6094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800" y="2514600"/>
            <a:ext cx="251712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Yo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ahoma"/>
              </a:rPr>
              <a:t>ú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ahoma"/>
              </a:rPr>
              <a:t>Él ella ud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039200" y="2589120"/>
            <a:ext cx="268776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Nosotro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ahoma"/>
              </a:rPr>
              <a:t>Ellos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ahoma"/>
              </a:rPr>
              <a:t>Ellas Uds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676520" y="3100320"/>
            <a:ext cx="3429000" cy="124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6391440" y="5257800"/>
            <a:ext cx="2676240" cy="1495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609480" y="0"/>
            <a:ext cx="784872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aber</a:t>
            </a:r>
            <a:r>
              <a:rPr b="1" lang="en-US" sz="39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o know a fact, to have information about somet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143000" y="19810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abem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e Rodolfo y Luisa son estudiantes universita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76320" y="426708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ab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e día es el viaje a Puerto Ric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981080" y="548640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é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l número de teléfono 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men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3"/>
          <a:stretch/>
        </p:blipFill>
        <p:spPr>
          <a:xfrm>
            <a:off x="5524560" y="3691080"/>
            <a:ext cx="2324160" cy="1643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MC900236566[1]"/>
          <p:cNvPicPr/>
          <p:nvPr/>
        </p:nvPicPr>
        <p:blipFill>
          <a:blip r:embed="rId4"/>
          <a:stretch/>
        </p:blipFill>
        <p:spPr>
          <a:xfrm flipH="1">
            <a:off x="7819920" y="3435480"/>
            <a:ext cx="13240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1371600" y="2133720"/>
            <a:ext cx="2819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é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0099"/>
                </a:solidFill>
                <a:latin typeface="Comic Sans MS"/>
              </a:rPr>
              <a:t>jugar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utbol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990720" y="3352680"/>
            <a:ext cx="3809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ab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0099"/>
                </a:solidFill>
                <a:latin typeface="Comic Sans MS"/>
              </a:rPr>
              <a:t>hablar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spaño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52280" y="4572000"/>
            <a:ext cx="43434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s niños n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ab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0099"/>
                </a:solidFill>
                <a:latin typeface="Comic Sans MS"/>
              </a:rPr>
              <a:t>multiplica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bien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14400" y="228600"/>
            <a:ext cx="731520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abe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900" spc="-1" strike="noStrike">
                <a:solidFill>
                  <a:srgbClr val="cc0099"/>
                </a:solidFill>
                <a:latin typeface="Times New Roman"/>
              </a:rPr>
              <a:t>infinitive*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to know </a:t>
            </a:r>
            <a:r>
              <a:rPr b="0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(to do something)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76320" y="5989680"/>
            <a:ext cx="44193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ocer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followed by an infinitive.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33520" y="15840"/>
            <a:ext cx="80010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ab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s often followed by a </a:t>
            </a:r>
            <a:r>
              <a:rPr b="0" lang="en-US" sz="3900" spc="-1" strike="noStrike">
                <a:solidFill>
                  <a:srgbClr val="008000"/>
                </a:solidFill>
                <a:latin typeface="Times New Roman"/>
              </a:rPr>
              <a:t>question wor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.*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09480" y="147168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abemo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8000"/>
                </a:solidFill>
                <a:latin typeface="Comic Sans MS"/>
              </a:rPr>
              <a:t>quié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s Antonio Bandera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590920" y="38862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ab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8000"/>
                </a:solidFill>
                <a:latin typeface="Comic Sans MS"/>
              </a:rPr>
              <a:t>dónd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stá Waldo y Wenda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28600" y="5334120"/>
            <a:ext cx="7086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é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8000"/>
                </a:solidFill>
                <a:latin typeface="Comic Sans MS"/>
              </a:rPr>
              <a:t>cuánd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ale el vuelo para Chil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5800" y="6324480"/>
            <a:ext cx="7848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ocer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followed by a question word.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419720" y="1974960"/>
            <a:ext cx="2361960" cy="183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3"/>
          <a:stretch/>
        </p:blipFill>
        <p:spPr>
          <a:xfrm>
            <a:off x="6781680" y="3429000"/>
            <a:ext cx="1433520" cy="1752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4"/>
          <a:stretch/>
        </p:blipFill>
        <p:spPr>
          <a:xfrm>
            <a:off x="7086600" y="5219640"/>
            <a:ext cx="16765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609480" y="0"/>
            <a:ext cx="792504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abe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s also used when we know something from memory (de memoria)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22320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uela Marta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ab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l Himno Nacional Mexican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219096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/>
          <p:cNvSpPr/>
          <p:nvPr/>
        </p:nvSpPr>
        <p:spPr>
          <a:xfrm>
            <a:off x="3809880" y="3352680"/>
            <a:ext cx="4648320" cy="1603440"/>
          </a:xfrm>
          <a:prstGeom prst="wedgeEllipseCallout">
            <a:avLst>
              <a:gd name="adj1" fmla="val -60930"/>
              <a:gd name="adj2" fmla="val 9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¡Mexicanos, al grito de guerra . . .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8" name="Group 6"/>
          <p:cNvGrpSpPr/>
          <p:nvPr/>
        </p:nvGrpSpPr>
        <p:grpSpPr>
          <a:xfrm>
            <a:off x="3886200" y="3429000"/>
            <a:ext cx="380520" cy="523440"/>
            <a:chOff x="3886200" y="3429000"/>
            <a:chExt cx="380520" cy="523440"/>
          </a:xfrm>
        </p:grpSpPr>
        <p:sp>
          <p:nvSpPr>
            <p:cNvPr id="139" name="AutoShape 7"/>
            <p:cNvSpPr/>
            <p:nvPr/>
          </p:nvSpPr>
          <p:spPr>
            <a:xfrm>
              <a:off x="4076640" y="3429000"/>
              <a:ext cx="190080" cy="14940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19080 h 149400"/>
                <a:gd name="textAreaBottom" fmla="*/ 130320 h 14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>
              <a:off x="3886200" y="3803040"/>
              <a:ext cx="190440" cy="14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4076640" y="3484800"/>
              <a:ext cx="0" cy="39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" name="Group 10"/>
          <p:cNvGrpSpPr/>
          <p:nvPr/>
        </p:nvGrpSpPr>
        <p:grpSpPr>
          <a:xfrm>
            <a:off x="5867280" y="4648320"/>
            <a:ext cx="381240" cy="514080"/>
            <a:chOff x="5867280" y="4648320"/>
            <a:chExt cx="381240" cy="514080"/>
          </a:xfrm>
        </p:grpSpPr>
        <p:sp>
          <p:nvSpPr>
            <p:cNvPr id="143" name="AutoShape 11"/>
            <p:cNvSpPr/>
            <p:nvPr/>
          </p:nvSpPr>
          <p:spPr>
            <a:xfrm>
              <a:off x="6058080" y="4648320"/>
              <a:ext cx="190440" cy="1468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19080 h 146880"/>
                <a:gd name="textAreaBottom" fmla="*/ 127800 h 14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5867280" y="5015520"/>
              <a:ext cx="190800" cy="14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6058080" y="4703040"/>
              <a:ext cx="0" cy="391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" name="Group 14"/>
          <p:cNvGrpSpPr/>
          <p:nvPr/>
        </p:nvGrpSpPr>
        <p:grpSpPr>
          <a:xfrm>
            <a:off x="7848720" y="3352680"/>
            <a:ext cx="609480" cy="590400"/>
            <a:chOff x="7848720" y="3352680"/>
            <a:chExt cx="609480" cy="590400"/>
          </a:xfrm>
        </p:grpSpPr>
        <p:sp>
          <p:nvSpPr>
            <p:cNvPr id="147" name="Oval 15"/>
            <p:cNvSpPr/>
            <p:nvPr/>
          </p:nvSpPr>
          <p:spPr>
            <a:xfrm>
              <a:off x="7848720" y="3785760"/>
              <a:ext cx="221400" cy="157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Line 16"/>
            <p:cNvSpPr/>
            <p:nvPr/>
          </p:nvSpPr>
          <p:spPr>
            <a:xfrm>
              <a:off x="8070120" y="3450960"/>
              <a:ext cx="0" cy="420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Oval 17"/>
            <p:cNvSpPr/>
            <p:nvPr/>
          </p:nvSpPr>
          <p:spPr>
            <a:xfrm>
              <a:off x="8236440" y="3687480"/>
              <a:ext cx="221760" cy="157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Line 18"/>
            <p:cNvSpPr/>
            <p:nvPr/>
          </p:nvSpPr>
          <p:spPr>
            <a:xfrm>
              <a:off x="8458200" y="3352680"/>
              <a:ext cx="0" cy="420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 flipV="1">
              <a:off x="8070120" y="3352680"/>
              <a:ext cx="387720" cy="105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area # 8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cribe 10 oraciones con el verbo SABE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to know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0:52:38Z</dcterms:created>
  <dc:creator>Helen Zumaeta</dc:creator>
  <dc:description/>
  <dc:language>en-US</dc:language>
  <cp:lastModifiedBy>Helen Zumaeta</cp:lastModifiedBy>
  <cp:lastPrinted>2013-04-03T13:57:45Z</cp:lastPrinted>
  <dcterms:modified xsi:type="dcterms:W3CDTF">2017-05-26T20:38:55Z</dcterms:modified>
  <cp:revision>22</cp:revision>
  <dc:subject/>
  <dc:title>Me llamo __________          Clase 7IM La fecha es el 9 de noviembre del 2011</dc:title>
</cp:coreProperties>
</file>